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7CD-BDD7-4F72-B15A-33E4C5A7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47F-49E1-430C-AB1F-34EF29F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5C0-42C2-4C47-A615-F56F4CF3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E03-5FB4-4AE6-B9BB-6A13BE58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225-1792-4835-A731-AA77A242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719-53C3-4D1B-903B-5328CD4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426B-1A5B-4F0B-8DB3-0F594E46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8B6-CF26-493E-B511-93A54DB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ABC-F150-47B4-8CD7-C6BE4B3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D8B8-C055-497C-9E74-42ADFF99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C42-1904-4923-B445-923F61BC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45C-6A49-41DF-A46A-8756E53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0AC-B998-4E06-B60B-4CF7DB6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1D99-BC22-4F9F-9B56-06C4F3F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764E-2E30-4406-9B71-8D6FEDED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4416-93B4-453E-AE52-98AB1FDE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84C-B313-4559-A0C4-8B8D3B1A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45A-034B-4379-8BF8-005D346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E91-55E0-42E6-A615-8C3EEE4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EAA-0E13-4F84-A106-1346E86A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D3A-88BD-4A78-A909-8D9FE7B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0BA-21AA-46C7-A1DD-9E8BA87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F45-6A23-41E3-A203-0E1AD1B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1BA-A795-4069-B36B-89973CB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DE2-01E4-4C65-995D-968DA27B8100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42B-77D9-4842-A06E-E694A100CA78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nets.iste.org/currstands/cstands-nets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ers/dlaur/Desktop/Journal%20Entry%20Rubric.doc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ournal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A 21st Century Updat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Essential Question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undamental organizing principl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rame student inquir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omote critical think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id the Second Industrial Revolution lead to the rise of big business and the eventual need for progressive refor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id the U.S. quest for overseas territories in the late 1800s lead to America's involvement in international conflic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odle Fea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ttp://moodle.cysd.k12.pa.us/course/view.php?id=156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21st Century Lin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nstructivist Approac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eachers as facilitato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tudents revise prior lear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cnets.iste.org/currstands/cstands-netst.html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I, III, and IV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ssess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osu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go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Quick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udent Thought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s to organize inform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ood review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mproved test scor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don’t mind it.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2:32:21Z</dcterms:created>
  <dc:creator>cysd</dc:creator>
  <dc:description/>
  <dc:language>en-US</dc:language>
  <cp:lastModifiedBy>cysd</cp:lastModifiedBy>
  <dcterms:modified xsi:type="dcterms:W3CDTF">2008-02-20T01:34:45Z</dcterms:modified>
  <cp:revision>4</cp:revision>
  <dc:subject/>
  <dc:title>Journals</dc:title>
</cp:coreProperties>
</file>